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7FB8-977E-4114-BDFD-0346D771D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C2EF-8DC8-4221-9D4C-B3FE254FF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C352-56E3-496D-AC65-F004EB61E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en.wikipedia.org/wiki/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 C links to liv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AF0E-9C7B-449A-929F-917A4E6E2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1782-598E-47D2-8D31-BD7DCECA3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rsharma.ca/obesity-did-weight-bias-play-a-role-in-access-to-h1n1-vaccinatio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0975-3A4A-4C54-B7E3-3CB23C9BA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bs.org/wgbh/aso/databank/entries/dm79sp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an interesting article as well…about WHO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efforts to eliminate smallpo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85CC-16FE-41C7-B3E8-41BE7E0B1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www.durham.ca/health.asp?nr=/departments/health/cdcp/routineSchedul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D07B-A816-4AB6-A8D1-CF1975965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8374-032C-48EB-9A98-24BD9BB73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 image from: http://www.allrmc.com/blog/reverse-mortgage-pros-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B05B-5483-4AFB-BB96-504DBBE53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BB16-F1AC-45B8-A6D8-8A9959E3D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gugenetics.pbworks.com/w/page/38371765/Gene%20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90EA-3974-4D09-AECE-BCB541A2E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E9E8-F492-4FC4-B4C3-1E91EC465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D71E-1C3F-47FA-8061-3C95D6747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exams4u.com/2013/03/viroids.html#.VBLk6Bz_A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fectious pieces of RNA without capsid; responsible for some plant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E509-3621-429F-8D6F-2B9D56B34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awelmazur.org/blog/?tag=pr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normally-shaped infectious proteins; cause rare diseases in mammals; consumption of infected animals causes prions to enter blood &amp; travel to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C317-0BFA-40E1-B31E-0E1FC4033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9304-6D54-4EF7-B776-AC7FEC2BC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vc.dfci.harvard.edu/hpv/HTML/classifica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C23A-6527-40A4-B1FA-306A809D4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lv.ch/Virologytutorials/Classific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5275-73E7-4D63-AE2F-26E33FAB5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CEA8-5C1E-4BF5-9372-E8E2A702E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T2 bacteriophage from: http://www.visualphotos.com/image/1x3745974/t2_bacteriophage_color_enhanced_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D1B6-F24D-45A6-A7C7-BD0BA67D1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rism.gatech.edu/~gh19/b1510/viru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ncbi.nlm.nih.gov/pmc/articles/PMC3312400/figure/A007161F2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5F21-1CD9-4CDE-82E1-AB3DE7AF3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CD2-3023-4488-9F2E-7891E861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081-41BA-450F-B515-2B301E93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5502-D124-4316-9E23-29D62E2C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E333-A755-45D5-93A2-9F4837D8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0AB-8428-42F1-97FD-0463E0BB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AC17-0D0E-4C0F-8AE0-15762DAA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B61D-A653-4522-8541-A630CD92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CDE-AE8C-4148-AEE4-A6FB0EF8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5806-6705-4AD7-90EC-CA91BB4F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1F21-CFDD-43EE-A43F-65DB06FA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95DF-05BF-4773-9970-6496FA4F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B9C-B40C-4E55-BDB4-C26F63EC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1C8E-9889-4E54-B0D5-F10528307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4sYSyuuLk5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es (2.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640px-Viral_infections_and_involved_species"/>
          <p:cNvPicPr/>
          <p:nvPr/>
        </p:nvPicPr>
        <p:blipFill>
          <a:blip r:embed="rId1"/>
          <a:stretch/>
        </p:blipFill>
        <p:spPr>
          <a:xfrm>
            <a:off x="1303200" y="304920"/>
            <a:ext cx="6535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c vs. Pande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vs. widespread (usually global) geographic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seen this fil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4sYSyuuLk5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ened virus or parts of virus trigger bod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ed against future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harma-obesity-vaccination-150x150"/>
          <p:cNvPicPr/>
          <p:nvPr/>
        </p:nvPicPr>
        <p:blipFill>
          <a:blip r:embed="rId1"/>
          <a:stretch/>
        </p:blipFill>
        <p:spPr>
          <a:xfrm>
            <a:off x="4343400" y="17524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d479spox01w001"/>
          <p:cNvPicPr/>
          <p:nvPr/>
        </p:nvPicPr>
        <p:blipFill>
          <a:blip r:embed="rId1"/>
          <a:stretch/>
        </p:blipFill>
        <p:spPr>
          <a:xfrm>
            <a:off x="1344600" y="1981080"/>
            <a:ext cx="6453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nization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imm_sch"/>
          <p:cNvPicPr/>
          <p:nvPr/>
        </p:nvPicPr>
        <p:blipFill>
          <a:blip r:embed="rId1"/>
          <a:stretch/>
        </p:blipFill>
        <p:spPr>
          <a:xfrm>
            <a:off x="1065240" y="1600200"/>
            <a:ext cx="7089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ntent Placeholder 4" descr="Naomi Tyson Immunization Record.jpeg"/>
          <p:cNvPicPr/>
          <p:nvPr/>
        </p:nvPicPr>
        <p:blipFill>
          <a:blip r:embed="rId1"/>
          <a:srcRect l="0" t="-13664" r="0" b="-13664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- or Anti-Vacc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reasons for being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vacci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viruses be us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how it works-gene therapy"/>
          <p:cNvPicPr/>
          <p:nvPr/>
        </p:nvPicPr>
        <p:blipFill>
          <a:blip r:embed="rId1"/>
          <a:stretch/>
        </p:blipFill>
        <p:spPr>
          <a:xfrm>
            <a:off x="1790640" y="1981080"/>
            <a:ext cx="5560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disease-causing nonliving partic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Living Org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(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viroid_thumb[1]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171461"/>
          <p:cNvPicPr/>
          <p:nvPr/>
        </p:nvPicPr>
        <p:blipFill>
          <a:blip r:embed="rId1"/>
          <a:stretch/>
        </p:blipFill>
        <p:spPr>
          <a:xfrm>
            <a:off x="1571760" y="1600200"/>
            <a:ext cx="6000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Living Org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(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2" descr="image002.gif"/>
          <p:cNvPicPr/>
          <p:nvPr/>
        </p:nvPicPr>
        <p:blipFill>
          <a:blip r:embed="rId1"/>
          <a:srcRect l="-15724" t="0" r="-15724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lassificationtotal"/>
          <p:cNvPicPr/>
          <p:nvPr/>
        </p:nvPicPr>
        <p:blipFill>
          <a:blip r:embed="rId1"/>
          <a:srcRect l="13281" t="0" r="13281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048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s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material (DNA or 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iruses are also surrounded by an enve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antibac_pix_virus_types"/>
          <p:cNvPicPr/>
          <p:nvPr/>
        </p:nvPicPr>
        <p:blipFill>
          <a:blip r:embed="rId1"/>
          <a:stretch/>
        </p:blipFill>
        <p:spPr>
          <a:xfrm>
            <a:off x="3809880" y="2284560"/>
            <a:ext cx="495324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st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re very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an infect many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cteriophag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fect bacteria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t2_bacteriophage_color_enhanced_transmission_electron_micrograph_tem_of_t2_bacteriophages_invad_BA2174"/>
          <p:cNvPicPr/>
          <p:nvPr/>
        </p:nvPicPr>
        <p:blipFill>
          <a:blip r:embed="rId1"/>
          <a:stretch/>
        </p:blipFill>
        <p:spPr>
          <a:xfrm>
            <a:off x="4267080" y="2327400"/>
            <a:ext cx="441972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tic cycle (cau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sogenic cyc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ysogen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dormanc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8lytic"/>
          <p:cNvPicPr/>
          <p:nvPr/>
        </p:nvPicPr>
        <p:blipFill>
          <a:blip r:embed="rId1"/>
          <a:stretch/>
        </p:blipFill>
        <p:spPr>
          <a:xfrm>
            <a:off x="2152800" y="3124080"/>
            <a:ext cx="491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viral Treatments (H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6" descr="cshperspectmed-HIV-007161_F2.jpg"/>
          <p:cNvPicPr/>
          <p:nvPr/>
        </p:nvPicPr>
        <p:blipFill>
          <a:blip r:embed="rId1"/>
          <a:srcRect l="-7194" t="0" r="-7194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5:45:36Z</dcterms:created>
  <dc:creator>rubina khan</dc:creator>
  <dc:description/>
  <dc:language>en-US</dc:language>
  <cp:lastModifiedBy>rubina khan</cp:lastModifiedBy>
  <dcterms:modified xsi:type="dcterms:W3CDTF">2017-03-22T13:30:26Z</dcterms:modified>
  <cp:revision>85</cp:revision>
  <dc:subject/>
  <dc:title>Viruses</dc:title>
</cp:coreProperties>
</file>